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8291175" cy="11430000"/>
  <p:notesSz cx="32561213" cy="42335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562000" cy="423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32561280" cy="42337080"/>
          </a:xfrm>
          <a:custGeom>
            <a:avLst/>
            <a:gdLst>
              <a:gd name="textAreaLeft" fmla="*/ 1440 w 32561280"/>
              <a:gd name="textAreaRight" fmla="*/ 32559840 w 32561280"/>
              <a:gd name="textAreaTop" fmla="*/ 1440 h 42337080"/>
              <a:gd name="textAreaBottom" fmla="*/ 42335640 h 42337080"/>
            </a:gdLst>
            <a:ahLst/>
            <a:rect l="textAreaLeft" t="textAreaTop" r="textAreaRight" b="textAreaBottom"/>
            <a:pathLst>
              <a:path w="21600" h="28085">
                <a:moveTo>
                  <a:pt x="4" y="0"/>
                </a:moveTo>
                <a:arcTo wR="4" hR="4" stAng="16200000" swAng="-5400000"/>
                <a:lnTo>
                  <a:pt x="0" y="28081"/>
                </a:lnTo>
                <a:arcTo wR="4" hR="4" stAng="10800000" swAng="-5400000"/>
                <a:lnTo>
                  <a:pt x="21596" y="280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32561280" cy="42337080"/>
          </a:xfrm>
          <a:custGeom>
            <a:avLst/>
            <a:gdLst>
              <a:gd name="textAreaLeft" fmla="*/ 1440 w 32561280"/>
              <a:gd name="textAreaRight" fmla="*/ 32559840 w 32561280"/>
              <a:gd name="textAreaTop" fmla="*/ 1440 h 42337080"/>
              <a:gd name="textAreaBottom" fmla="*/ 42335640 h 42337080"/>
            </a:gdLst>
            <a:ahLst/>
            <a:rect l="textAreaLeft" t="textAreaTop" r="textAreaRight" b="textAreaBottom"/>
            <a:pathLst>
              <a:path w="21600" h="28085">
                <a:moveTo>
                  <a:pt x="4" y="0"/>
                </a:moveTo>
                <a:arcTo wR="4" hR="4" stAng="16200000" swAng="-5400000"/>
                <a:lnTo>
                  <a:pt x="0" y="28081"/>
                </a:lnTo>
                <a:arcTo wR="4" hR="4" stAng="10800000" swAng="-5400000"/>
                <a:lnTo>
                  <a:pt x="21596" y="280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32561280" cy="42337080"/>
          </a:xfrm>
          <a:custGeom>
            <a:avLst/>
            <a:gdLst>
              <a:gd name="textAreaLeft" fmla="*/ 1440 w 32561280"/>
              <a:gd name="textAreaRight" fmla="*/ 32559840 w 32561280"/>
              <a:gd name="textAreaTop" fmla="*/ 1440 h 42337080"/>
              <a:gd name="textAreaBottom" fmla="*/ 42335640 h 42337080"/>
            </a:gdLst>
            <a:ahLst/>
            <a:rect l="textAreaLeft" t="textAreaTop" r="textAreaRight" b="textAreaBottom"/>
            <a:pathLst>
              <a:path w="21600" h="28085">
                <a:moveTo>
                  <a:pt x="4" y="0"/>
                </a:moveTo>
                <a:arcTo wR="4" hR="4" stAng="16200000" swAng="-5400000"/>
                <a:lnTo>
                  <a:pt x="0" y="28081"/>
                </a:lnTo>
                <a:arcTo wR="4" hR="4" stAng="10800000" swAng="-5400000"/>
                <a:lnTo>
                  <a:pt x="21596" y="280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3582720" y="3217680"/>
            <a:ext cx="25361640" cy="158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54040" y="20108520"/>
            <a:ext cx="26025480" cy="190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14106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434160" y="0"/>
            <a:ext cx="141062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40213080"/>
            <a:ext cx="14106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8433800" y="40213080"/>
            <a:ext cx="141001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  <a:defRPr b="0" lang="pt-BR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</a:pPr>
            <a:fld id="{CC30F641-D515-4B98-A42D-84B667424A44}" type="slidenum">
              <a:rPr b="0" lang="pt-BR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18434160" y="40213080"/>
            <a:ext cx="141001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</a:pPr>
            <a:fld id="{A6697930-C097-4245-944E-4DE9F4EBCA24}" type="slidenum">
              <a:rPr b="0" lang="pt-BR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8434160" y="40219200"/>
            <a:ext cx="1410624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</a:pPr>
            <a:fld id="{84D4B27F-550E-4464-BB6A-44DBA1DD5A1A}" type="slidenum">
              <a:rPr b="0" lang="pt-BR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765680" y="3218040"/>
            <a:ext cx="23023440" cy="158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3254040" y="20108520"/>
            <a:ext cx="26031960" cy="190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18434160" y="40213080"/>
            <a:ext cx="141001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</a:pPr>
            <a:fld id="{2181D10A-D42D-4CCC-9167-36E4F0542ED7}" type="slidenum">
              <a:rPr b="0" lang="pt-BR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8434160" y="40219200"/>
            <a:ext cx="1410624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1836720"/>
                <a:tab algn="l" pos="3679920"/>
                <a:tab algn="l" pos="5522760"/>
                <a:tab algn="l" pos="7367760"/>
                <a:tab algn="l" pos="9210600"/>
                <a:tab algn="l" pos="11053800"/>
                <a:tab algn="l" pos="12898440"/>
                <a:tab algn="l" pos="14741640"/>
                <a:tab algn="l" pos="16584480"/>
                <a:tab algn="l" pos="18429120"/>
                <a:tab algn="l" pos="20272320"/>
                <a:tab algn="l" pos="22115520"/>
                <a:tab algn="l" pos="23960160"/>
                <a:tab algn="l" pos="25803360"/>
                <a:tab algn="l" pos="27648000"/>
                <a:tab algn="l" pos="29490840"/>
                <a:tab algn="l" pos="31334040"/>
                <a:tab algn="l" pos="33178680"/>
                <a:tab algn="l" pos="35021880"/>
                <a:tab algn="l" pos="36865080"/>
              </a:tabLst>
            </a:pPr>
            <a:fld id="{2FEDE143-87A3-4F41-AFDA-991D29A6A396}" type="slidenum">
              <a:rPr b="0" lang="pt-BR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765680" y="3218040"/>
            <a:ext cx="23023440" cy="158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75120" rIns="375120" tIns="187560" bIns="187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254040" y="20108520"/>
            <a:ext cx="26031960" cy="190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9CC1-251F-4B67-9D7A-AB2DEB3B7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1618272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2640" y="6591600"/>
            <a:ext cx="1618272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014A-298A-4990-9C72-788226064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488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2640" y="659160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4880" y="659160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90E7-2774-44FF-8FB2-5EB70A4F8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4280" y="274644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995920" y="274644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2640" y="659160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24280" y="659160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995920" y="6591600"/>
            <a:ext cx="521064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4037-05BA-404A-9B97-F736B2012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2640" y="2746440"/>
            <a:ext cx="1618272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Aft>
                <a:spcPts val="575"/>
              </a:spcAft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AD94-4416-4CA3-B27C-F5ECF5EE8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1618272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509B-3610-4F09-BDB9-C0746B28F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789696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4880" y="2746440"/>
            <a:ext cx="789696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C917-ADDF-4B63-9111-C6F4BF6D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A956-24ED-43AC-BDC6-222288BFC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52640" y="581040"/>
            <a:ext cx="1618272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Aft>
                <a:spcPts val="575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E928-CC41-44A9-83EA-4577F19A6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4880" y="2746440"/>
            <a:ext cx="789696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2640" y="659160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F235-7B6D-46AF-BAF1-DF6AA133D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789696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488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4880" y="659160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6EBB-AB46-4993-B3C4-2A6E4BAD3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264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4880" y="2746440"/>
            <a:ext cx="789696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2640" y="6591600"/>
            <a:ext cx="16182720" cy="35110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indent="0">
              <a:lnSpc>
                <a:spcPct val="81000"/>
              </a:lnSpc>
              <a:spcAft>
                <a:spcPts val="575"/>
              </a:spcAft>
              <a:buNone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4F88-D383-4186-9123-B9BF6178C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2640" y="581040"/>
            <a:ext cx="161827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2640" y="2746440"/>
            <a:ext cx="16182720" cy="736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t">
            <a:normAutofit/>
          </a:bodyPr>
          <a:p>
            <a:pPr marL="138240" indent="-13824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•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11592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63680" indent="-9216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•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49440" indent="-9216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835200" indent="-9216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»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835200" indent="-9216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»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835200" indent="-92160">
              <a:lnSpc>
                <a:spcPct val="81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»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052640" y="10299600"/>
            <a:ext cx="41875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080" rIns="37080" tIns="18720" bIns="18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303960" y="10299600"/>
            <a:ext cx="56991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080" rIns="37080" tIns="18720" bIns="18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3047840" y="10299600"/>
            <a:ext cx="418608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0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  <a:defRPr b="0" lang="pt-BR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0000"/>
              </a:lnSpc>
              <a:buNone/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fld id="{8445BC8B-E663-42B4-A6A4-9E7335478A43}" type="slidenum">
              <a:rPr b="0" lang="pt-BR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7" descr="20220821_162525_0002.pn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4649760" y="2131920"/>
            <a:ext cx="9067680" cy="906804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de cantos arredondados 30"/>
          <p:cNvSpPr/>
          <p:nvPr/>
        </p:nvSpPr>
        <p:spPr>
          <a:xfrm>
            <a:off x="382680" y="2181240"/>
            <a:ext cx="5634000" cy="4286160"/>
          </a:xfrm>
          <a:prstGeom prst="roundRect">
            <a:avLst>
              <a:gd name="adj" fmla="val 275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aixaDeTexto 31"/>
          <p:cNvSpPr/>
          <p:nvPr/>
        </p:nvSpPr>
        <p:spPr>
          <a:xfrm>
            <a:off x="1306440" y="1903320"/>
            <a:ext cx="372420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tângulo de cantos arredondados 30"/>
          <p:cNvSpPr/>
          <p:nvPr/>
        </p:nvSpPr>
        <p:spPr>
          <a:xfrm>
            <a:off x="382680" y="6780240"/>
            <a:ext cx="5634000" cy="4286160"/>
          </a:xfrm>
          <a:prstGeom prst="roundRect">
            <a:avLst>
              <a:gd name="adj" fmla="val 275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de cantos arredondados 30"/>
          <p:cNvSpPr/>
          <p:nvPr/>
        </p:nvSpPr>
        <p:spPr>
          <a:xfrm>
            <a:off x="12274560" y="6780240"/>
            <a:ext cx="5634000" cy="2590920"/>
          </a:xfrm>
          <a:prstGeom prst="roundRect">
            <a:avLst>
              <a:gd name="adj" fmla="val 88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aixaDeTexto 31"/>
          <p:cNvSpPr/>
          <p:nvPr/>
        </p:nvSpPr>
        <p:spPr>
          <a:xfrm>
            <a:off x="12633480" y="6551640"/>
            <a:ext cx="405576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ferências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se necessári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tângulo de cantos arredondados 30"/>
          <p:cNvSpPr/>
          <p:nvPr/>
        </p:nvSpPr>
        <p:spPr>
          <a:xfrm>
            <a:off x="12269880" y="9675720"/>
            <a:ext cx="5634000" cy="1371600"/>
          </a:xfrm>
          <a:prstGeom prst="roundRect">
            <a:avLst>
              <a:gd name="adj" fmla="val 17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aixaDeTexto 31"/>
          <p:cNvSpPr/>
          <p:nvPr/>
        </p:nvSpPr>
        <p:spPr>
          <a:xfrm>
            <a:off x="12628440" y="9448920"/>
            <a:ext cx="307044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poio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se necessári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de cantos arredondados 30"/>
          <p:cNvSpPr/>
          <p:nvPr/>
        </p:nvSpPr>
        <p:spPr>
          <a:xfrm>
            <a:off x="6326280" y="2181240"/>
            <a:ext cx="5634000" cy="8866080"/>
          </a:xfrm>
          <a:custGeom>
            <a:avLst/>
            <a:gdLst>
              <a:gd name="textAreaLeft" fmla="*/ 45360 w 5634000"/>
              <a:gd name="textAreaRight" fmla="*/ 5588640 w 5634000"/>
              <a:gd name="textAreaTop" fmla="*/ 45360 h 8866080"/>
              <a:gd name="textAreaBottom" fmla="*/ 8820720 h 8866080"/>
            </a:gdLst>
            <a:ahLst/>
            <a:rect l="textAreaLeft" t="textAreaTop" r="textAreaRight" b="textAreaBottom"/>
            <a:pathLst>
              <a:path w="21600" h="33991">
                <a:moveTo>
                  <a:pt x="594" y="0"/>
                </a:moveTo>
                <a:arcTo wR="594" hR="594" stAng="16200000" swAng="-5400000"/>
                <a:lnTo>
                  <a:pt x="0" y="33397"/>
                </a:lnTo>
                <a:arcTo wR="594" hR="594" stAng="10800000" swAng="-5400000"/>
                <a:lnTo>
                  <a:pt x="21006" y="33991"/>
                </a:lnTo>
                <a:arcTo wR="594" hR="594" stAng="5400000" swAng="-5400000"/>
                <a:lnTo>
                  <a:pt x="21600" y="594"/>
                </a:lnTo>
                <a:arcTo wR="594" hR="59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aixaDeTexto 31"/>
          <p:cNvSpPr/>
          <p:nvPr/>
        </p:nvSpPr>
        <p:spPr>
          <a:xfrm>
            <a:off x="2135160" y="6551640"/>
            <a:ext cx="175248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tângulo de cantos arredondados 30"/>
          <p:cNvSpPr/>
          <p:nvPr/>
        </p:nvSpPr>
        <p:spPr>
          <a:xfrm>
            <a:off x="12269880" y="2181240"/>
            <a:ext cx="5634000" cy="4286160"/>
          </a:xfrm>
          <a:prstGeom prst="roundRect">
            <a:avLst>
              <a:gd name="adj" fmla="val 275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aixaDeTexto 31"/>
          <p:cNvSpPr/>
          <p:nvPr/>
        </p:nvSpPr>
        <p:spPr>
          <a:xfrm>
            <a:off x="13717440" y="1903320"/>
            <a:ext cx="276552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aixaDeTexto 31"/>
          <p:cNvSpPr/>
          <p:nvPr/>
        </p:nvSpPr>
        <p:spPr>
          <a:xfrm>
            <a:off x="7218360" y="1979640"/>
            <a:ext cx="3832200" cy="4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chados/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aixaDeTexto 45"/>
          <p:cNvSpPr/>
          <p:nvPr/>
        </p:nvSpPr>
        <p:spPr>
          <a:xfrm>
            <a:off x="2211480" y="3198960"/>
            <a:ext cx="14249160" cy="277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606060"/>
                </a:solidFill>
                <a:latin typeface="Verdana"/>
                <a:ea typeface="Verdana"/>
              </a:rPr>
              <a:t>Modelo </a:t>
            </a:r>
            <a:r>
              <a:rPr b="1" lang="en-US" sz="3000" spc="-1" strike="noStrike">
                <a:solidFill>
                  <a:srgbClr val="606060"/>
                </a:solidFill>
                <a:latin typeface="Verdana"/>
                <a:ea typeface="Verdana"/>
              </a:rPr>
              <a:t>Comfort</a:t>
            </a:r>
            <a:r>
              <a:rPr b="1" lang="pt-BR" sz="3000" spc="-1" strike="noStrike">
                <a:solidFill>
                  <a:srgbClr val="606060"/>
                </a:solidFill>
                <a:latin typeface="Verdana"/>
                <a:ea typeface="Verdana"/>
              </a:rPr>
              <a:t> </a:t>
            </a: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: Inserimos áreas para ajudá-los a criar o pôs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Contudo, altere o necessário para o seu trabalh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Seja o tamanho das caixas, incluir novas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Mantenha no mínimo esses pontos destacados aqu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Recursos gráficos são mais que bem vind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(imagens, dados, esquemas, tabelas, et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15774840" y="0"/>
            <a:ext cx="2516400" cy="19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9"/>
          <p:cNvGrpSpPr/>
          <p:nvPr/>
        </p:nvGrpSpPr>
        <p:grpSpPr>
          <a:xfrm>
            <a:off x="0" y="0"/>
            <a:ext cx="18291240" cy="2061720"/>
            <a:chOff x="0" y="0"/>
            <a:chExt cx="18291240" cy="2061720"/>
          </a:xfrm>
        </p:grpSpPr>
        <p:sp>
          <p:nvSpPr>
            <p:cNvPr id="67" name="Rectangle 24"/>
            <p:cNvSpPr/>
            <p:nvPr/>
          </p:nvSpPr>
          <p:spPr>
            <a:xfrm>
              <a:off x="0" y="0"/>
              <a:ext cx="18288360" cy="1904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CaixaDeTexto 6"/>
            <p:cNvSpPr/>
            <p:nvPr/>
          </p:nvSpPr>
          <p:spPr>
            <a:xfrm>
              <a:off x="3963960" y="303840"/>
              <a:ext cx="11720520" cy="9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720" bIns="18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520"/>
                  <a:tab algn="l" pos="365040"/>
                  <a:tab algn="l" pos="547560"/>
                  <a:tab algn="l" pos="730080"/>
                  <a:tab algn="l" pos="912960"/>
                  <a:tab algn="l" pos="1095480"/>
                  <a:tab algn="l" pos="1278000"/>
                  <a:tab algn="l" pos="1460520"/>
                  <a:tab algn="l" pos="1643040"/>
                  <a:tab algn="l" pos="1825560"/>
                  <a:tab algn="l" pos="2008080"/>
                  <a:tab algn="l" pos="2190600"/>
                  <a:tab algn="l" pos="2373480"/>
                  <a:tab algn="l" pos="2556000"/>
                  <a:tab algn="l" pos="2738520"/>
                  <a:tab algn="l" pos="2921040"/>
                  <a:tab algn="l" pos="3103560"/>
                  <a:tab algn="l" pos="3286080"/>
                  <a:tab algn="l" pos="3468600"/>
                  <a:tab algn="l" pos="3651120"/>
                </a:tabLst>
              </a:pPr>
              <a:r>
                <a:rPr b="1" lang="pt-BR" sz="3000" spc="-1" strike="noStrike">
                  <a:solidFill>
                    <a:srgbClr val="ffffff"/>
                  </a:solidFill>
                  <a:latin typeface="Verdana"/>
                </a:rPr>
                <a:t>Este é o modelo de Pôster fornecido pelo Scientiarum Historia 15: insira o título do Trabalho aqu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CaixaDeTexto 7"/>
            <p:cNvSpPr/>
            <p:nvPr/>
          </p:nvSpPr>
          <p:spPr>
            <a:xfrm>
              <a:off x="3506760" y="1293840"/>
              <a:ext cx="1234440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720" bIns="18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520"/>
                  <a:tab algn="l" pos="365040"/>
                  <a:tab algn="l" pos="547560"/>
                  <a:tab algn="l" pos="730080"/>
                  <a:tab algn="l" pos="912960"/>
                  <a:tab algn="l" pos="1095480"/>
                  <a:tab algn="l" pos="1278000"/>
                  <a:tab algn="l" pos="1460520"/>
                  <a:tab algn="l" pos="1643040"/>
                  <a:tab algn="l" pos="1825560"/>
                  <a:tab algn="l" pos="2008080"/>
                  <a:tab algn="l" pos="2190600"/>
                  <a:tab algn="l" pos="2373480"/>
                  <a:tab algn="l" pos="2556000"/>
                  <a:tab algn="l" pos="2738520"/>
                  <a:tab algn="l" pos="2921040"/>
                  <a:tab algn="l" pos="3103560"/>
                  <a:tab algn="l" pos="3286080"/>
                  <a:tab algn="l" pos="3468600"/>
                  <a:tab algn="l" pos="365112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Verdana"/>
                </a:rPr>
                <a:t>Coautores do Trabalho: Tarsila do Amaral, Anita Malfatti, Mário de Andrade, Oswald de Andra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2520"/>
                  <a:tab algn="l" pos="365040"/>
                  <a:tab algn="l" pos="547560"/>
                  <a:tab algn="l" pos="730080"/>
                  <a:tab algn="l" pos="912960"/>
                  <a:tab algn="l" pos="1095480"/>
                  <a:tab algn="l" pos="1278000"/>
                  <a:tab algn="l" pos="1460520"/>
                  <a:tab algn="l" pos="1643040"/>
                  <a:tab algn="l" pos="1825560"/>
                  <a:tab algn="l" pos="2008080"/>
                  <a:tab algn="l" pos="2190600"/>
                  <a:tab algn="l" pos="2373480"/>
                  <a:tab algn="l" pos="2556000"/>
                  <a:tab algn="l" pos="2738520"/>
                  <a:tab algn="l" pos="2921040"/>
                  <a:tab algn="l" pos="3103560"/>
                  <a:tab algn="l" pos="3286080"/>
                  <a:tab algn="l" pos="3468600"/>
                  <a:tab algn="l" pos="365112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Verdana"/>
                </a:rPr>
                <a:t>Instituto de Cuidados com a Semente Chamada Brasil, Universidade Federal do Rio de Janei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2520"/>
                  <a:tab algn="l" pos="365040"/>
                  <a:tab algn="l" pos="547560"/>
                  <a:tab algn="l" pos="730080"/>
                  <a:tab algn="l" pos="912960"/>
                  <a:tab algn="l" pos="1095480"/>
                  <a:tab algn="l" pos="1278000"/>
                  <a:tab algn="l" pos="1460520"/>
                  <a:tab algn="l" pos="1643040"/>
                  <a:tab algn="l" pos="1825560"/>
                  <a:tab algn="l" pos="2008080"/>
                  <a:tab algn="l" pos="2190600"/>
                  <a:tab algn="l" pos="2373480"/>
                  <a:tab algn="l" pos="2556000"/>
                  <a:tab algn="l" pos="2738520"/>
                  <a:tab algn="l" pos="2921040"/>
                  <a:tab algn="l" pos="3103560"/>
                  <a:tab algn="l" pos="3286080"/>
                  <a:tab algn="l" pos="3468600"/>
                  <a:tab algn="l" pos="365112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" name="Picture 25" descr="20220821_162525_0001.png"/>
            <p:cNvPicPr/>
            <p:nvPr/>
          </p:nvPicPr>
          <p:blipFill>
            <a:blip r:embed="rId2"/>
            <a:srcRect l="11611" t="15330" r="7688" b="19336"/>
            <a:stretch/>
          </p:blipFill>
          <p:spPr>
            <a:xfrm>
              <a:off x="0" y="0"/>
              <a:ext cx="2363760" cy="19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HCTE NA COVID19_para fundo claro.png"/>
            <p:cNvPicPr/>
            <p:nvPr/>
          </p:nvPicPr>
          <p:blipFill>
            <a:blip r:embed="rId3"/>
            <a:srcRect l="0" t="0" r="0" b="27898"/>
            <a:stretch/>
          </p:blipFill>
          <p:spPr>
            <a:xfrm>
              <a:off x="15744600" y="303840"/>
              <a:ext cx="254664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4"/>
          <p:cNvGrpSpPr/>
          <p:nvPr/>
        </p:nvGrpSpPr>
        <p:grpSpPr>
          <a:xfrm>
            <a:off x="0" y="0"/>
            <a:ext cx="18291240" cy="11199960"/>
            <a:chOff x="0" y="0"/>
            <a:chExt cx="18291240" cy="11199960"/>
          </a:xfrm>
        </p:grpSpPr>
        <p:grpSp>
          <p:nvGrpSpPr>
            <p:cNvPr id="73" name="Group 16"/>
            <p:cNvGrpSpPr/>
            <p:nvPr/>
          </p:nvGrpSpPr>
          <p:grpSpPr>
            <a:xfrm>
              <a:off x="0" y="0"/>
              <a:ext cx="18291240" cy="1913400"/>
              <a:chOff x="0" y="0"/>
              <a:chExt cx="18291240" cy="1913400"/>
            </a:xfrm>
          </p:grpSpPr>
          <p:sp>
            <p:nvSpPr>
              <p:cNvPr id="74" name="Rectangle 17"/>
              <p:cNvSpPr/>
              <p:nvPr/>
            </p:nvSpPr>
            <p:spPr>
              <a:xfrm>
                <a:off x="0" y="0"/>
                <a:ext cx="18288360" cy="190512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CaixaDeTexto 6"/>
              <p:cNvSpPr/>
              <p:nvPr/>
            </p:nvSpPr>
            <p:spPr>
              <a:xfrm>
                <a:off x="3963960" y="303840"/>
                <a:ext cx="11720520" cy="9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080" rIns="37080" tIns="18720" bIns="187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1" lang="pt-BR" sz="3000" spc="-1" strike="noStrike">
                    <a:solidFill>
                      <a:srgbClr val="ffffff"/>
                    </a:solidFill>
                    <a:latin typeface="Verdana"/>
                  </a:rPr>
                  <a:t>Este é o modelo de Pôster fornecido pelo Scientiarum Historia 15: insira o título do Trabalho aqui</a:t>
                </a: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6" name="Picture 20" descr="20220821_162525_0001.png"/>
              <p:cNvPicPr/>
              <p:nvPr/>
            </p:nvPicPr>
            <p:blipFill>
              <a:blip r:embed="rId1"/>
              <a:srcRect l="11611" t="15330" r="7688" b="19336"/>
              <a:stretch/>
            </p:blipFill>
            <p:spPr>
              <a:xfrm>
                <a:off x="0" y="0"/>
                <a:ext cx="2363760" cy="19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26" descr="HCTE NA COVID19_para fundo claro.png"/>
              <p:cNvPicPr/>
              <p:nvPr/>
            </p:nvPicPr>
            <p:blipFill>
              <a:blip r:embed="rId2"/>
              <a:srcRect l="0" t="0" r="0" b="27898"/>
              <a:stretch/>
            </p:blipFill>
            <p:spPr>
              <a:xfrm>
                <a:off x="15744600" y="303840"/>
                <a:ext cx="254664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Picture 23" descr="20220821_162525_0002.png"/>
            <p:cNvPicPr/>
            <p:nvPr/>
          </p:nvPicPr>
          <p:blipFill>
            <a:blip r:embed="rId3">
              <a:lum bright="74000"/>
            </a:blip>
            <a:stretch/>
          </p:blipFill>
          <p:spPr>
            <a:xfrm>
              <a:off x="4649760" y="2132640"/>
              <a:ext cx="9067680" cy="90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CaixaDeTexto 22"/>
          <p:cNvSpPr/>
          <p:nvPr/>
        </p:nvSpPr>
        <p:spPr>
          <a:xfrm>
            <a:off x="2135160" y="3198960"/>
            <a:ext cx="14249520" cy="41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606060"/>
                </a:solidFill>
                <a:latin typeface="Verdana"/>
                <a:ea typeface="Verdana"/>
              </a:rPr>
              <a:t>Modelo </a:t>
            </a:r>
            <a:r>
              <a:rPr b="1" lang="en-US" sz="3000" spc="-1" strike="noStrike">
                <a:solidFill>
                  <a:srgbClr val="606060"/>
                </a:solidFill>
                <a:latin typeface="Verdana"/>
                <a:ea typeface="Verdana"/>
              </a:rPr>
              <a:t>Creative</a:t>
            </a:r>
            <a:r>
              <a:rPr b="1" lang="pt-BR" sz="3000" spc="-1" strike="noStrike">
                <a:solidFill>
                  <a:srgbClr val="606060"/>
                </a:solidFill>
                <a:latin typeface="Verdana"/>
                <a:ea typeface="Verdana"/>
              </a:rPr>
              <a:t> </a:t>
            </a: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: Deixamos toda área livre para criar o pôs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Contudo, mantenha no mínimo as informações sobre a Área predominante, objetivos e linhas de pesquisa, nomes da sua equipe, descrição breve dos principais projetos e se necessário referências e órgãos apoiador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Recursos gráficos são mais que bem vind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pt-BR" sz="3000" spc="-1" strike="noStrike">
                <a:solidFill>
                  <a:srgbClr val="b3b3b3"/>
                </a:solidFill>
                <a:latin typeface="Verdana"/>
                <a:ea typeface="Verdana"/>
              </a:rPr>
              <a:t>(imagens, dados, esquemas, tabelas, et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3506760" y="1293840"/>
            <a:ext cx="123444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720" bIns="18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oautores do Trabalho: Tarsila do Amaral, Anita Malfatti, Mário de Andrade, Oswald de Andr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Instituto de Cuidados com a Semente Chamada Brasil, Universidade Federal do Rio de Janei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0:40:17Z</dcterms:created>
  <dc:creator>Rodrigo Oliveira</dc:creator>
  <dc:description/>
  <dc:language>en-US</dc:language>
  <cp:lastModifiedBy>Lamae</cp:lastModifiedBy>
  <cp:lastPrinted>2020-06-25T01:58:40Z</cp:lastPrinted>
  <dcterms:modified xsi:type="dcterms:W3CDTF">2022-08-30T21:20:44Z</dcterms:modified>
  <cp:revision>172</cp:revision>
  <dc:subject/>
  <dc:title>Automatic Evaluation of API Usability  using Complexity Metrics and Visualizations</dc:title>
</cp:coreProperties>
</file>